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F00-517C-4FD8-9C35-33909F9A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E34-9DD4-429E-933C-FC56FFB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8B2-7EAF-45A1-9962-5A15CBAD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948-3F37-4920-8F76-07EA9D8F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B63B-FF38-4A16-A430-97DDF53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CA41-8B05-4766-95BB-E57324B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AEEF-E80C-486C-990B-5074DB56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A16-8A15-4A40-98E5-153D48A8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FE84-67BE-48AB-BFAE-774714AB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E97-5969-45DF-82A6-AED03D3C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E704-DB48-455F-A150-1304E6EE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0CE-33A5-459D-8083-89A28448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4F0F-994E-4D36-B79D-AF2E106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9B50-256F-4A3E-B755-4B27A77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F77-C8C5-4389-987F-31FFBF72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1A9C-CCAC-4CBD-9DEF-1C7761C4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A1B9-B0FD-4EDF-B30D-FE5D39A6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C6B-D64C-46A4-B87E-6D999A9F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C54-34B0-488F-A4F3-3E59FDC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B45-CBF1-4E33-AB3E-BD74541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FB6-1516-4AE5-97ED-2ED6C99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C06-D96F-4715-AB2D-166809C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DAA-465E-40CE-900B-98EC131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120-556E-42D9-95DB-050629D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7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01CE-A8DC-42A6-B29E-66BD55377A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217-9697-4C6C-A2D8-C066720F208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vocabulary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Dust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cal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qual weight in a number eq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09680" y="2182680"/>
            <a:ext cx="5334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vertical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 and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1752480"/>
            <a:ext cx="761760" cy="18288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09680"/>
            <a:ext cx="1752840" cy="1752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1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horizontal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de to 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895480"/>
            <a:ext cx="3962520" cy="914400"/>
          </a:xfrm>
          <a:prstGeom prst="rightArrow">
            <a:avLst>
              <a:gd name="adj1" fmla="val 50000"/>
              <a:gd name="adj2" fmla="val 10833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4876920"/>
            <a:ext cx="5257800" cy="1218960"/>
          </a:xfrm>
          <a:prstGeom prst="leftArrow">
            <a:avLst>
              <a:gd name="adj1" fmla="val 50000"/>
              <a:gd name="adj2" fmla="val 107834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48:10Z</dcterms:created>
  <dc:creator>dustin.cossman</dc:creator>
  <dc:description/>
  <dc:language>en-US</dc:language>
  <cp:lastModifiedBy>dustin.cossman</cp:lastModifiedBy>
  <dcterms:modified xsi:type="dcterms:W3CDTF">2010-11-23T20:50:25Z</dcterms:modified>
  <cp:revision>1</cp:revision>
  <dc:subject/>
  <dc:title>vocabulary</dc:title>
</cp:coreProperties>
</file>